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9.wmf" ContentType="image/x-wmf"/>
  <Override PartName="/ppt/media/image14.wmf" ContentType="image/x-wmf"/>
  <Override PartName="/ppt/media/image6.gif" ContentType="image/gif"/>
  <Override PartName="/ppt/media/image13.jpeg" ContentType="image/jpeg"/>
  <Override PartName="/ppt/media/image3.wmf" ContentType="image/x-wmf"/>
  <Override PartName="/ppt/media/image1.png" ContentType="image/png"/>
  <Override PartName="/ppt/media/image2.gif" ContentType="image/gif"/>
  <Override PartName="/ppt/media/image15.gif" ContentType="image/gif"/>
  <Override PartName="/ppt/media/image7.jpeg" ContentType="image/jpeg"/>
  <Override PartName="/ppt/media/drumroll.wav" ContentType="audio/x-wav"/>
  <Override PartName="/ppt/media/image10.wmf" ContentType="image/x-wmf"/>
  <Override PartName="/ppt/media/image4.jpeg" ContentType="image/jpeg"/>
  <Override PartName="/ppt/media/image5.gif" ContentType="image/gi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924-4770-4841-9327-4192D9B7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548-6FD9-40A2-9CBE-A10B6B98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799-6BAE-4315-8F78-CE87E957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8E5-D10A-42BB-8E05-0D262503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0E78-842B-463C-B816-79711889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0ECE-BE1A-4330-8819-5C2B9D68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A5F6-553C-4D42-89F8-E91A941A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1A34-3D61-4999-B60A-52DFE05E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3DDB-2415-4DEC-95E0-7050FBCC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0A18-AC63-49CF-8394-668BBBF0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57B7-F24A-478F-A4DF-C82A90BA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1A5-4405-4251-BFC4-647D3CF4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E228-7107-48D1-8B7D-04DF4A50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CAED-E252-4AD0-AB41-223854A6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1FE3-20D5-43B6-9BFB-37856E10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599B-1F20-44EC-8CDE-3432A5C4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B680-4925-468F-BAD3-F00D5A3F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1F1-A208-47E0-B61F-66C82634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B3D-4D24-425B-B961-F3698FBA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F7B-E8B8-4F08-8900-6A6ED789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017-157E-412A-9528-C976FEE5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421-C717-43E7-9D26-806A5B5C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4A4-E12B-4B21-BB5A-4C74BD4C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17D-CBD4-4525-8D4C-1088FFE9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24A5-5D09-4DF0-92C2-9837A58741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8AB0-BB62-4EED-8DB0-7FF51F7532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8229600" cy="259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ringing </a:t>
            </a: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W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ords </a:t>
            </a: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T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o </a:t>
            </a: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L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ife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05120" y="5867280"/>
            <a:ext cx="518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: Stephanie Wilson-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unt Rainier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474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745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nia and her neighbors waited anxiously to hear from the rescue organiz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do something anxiously, you are acting or doing it because you are nervous and worried about what might happ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mother is anxiously waiting for her son who is not yet hom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0844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which situation might someone be anxious?  Taking a test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9461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 talking to a friend on the phon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9874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at’s right!  Someone might be anxious taking a tes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9461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examples of situations when you have acted anxiousl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em with your tea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the girl observes the deer in her garden, she begins 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ppreciat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wild animals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thing if you enjoy and understand some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appreciate reading informational text because you enjoy learning new thing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86200" y="4267080"/>
            <a:ext cx="1968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often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hen someone helps th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2024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ich situation shows appreciation?  Tearing down a forest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31622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2590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45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 writing a poem about your mo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657600" y="388620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at’s right! Writing a poem about your mom would show appreci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657600" y="388620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me things that you appreciate doing or seeing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them with your te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9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Follow-up Activities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4745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Making Choic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any of the things I say might cause someone to be anxious, stand up, pace back and forth, and say 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”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not, don’t do anything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aking Choic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ing to a new school where you don’t know any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ing your report card with poor grades to your par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us is late on the first day of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nting a video ga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ing in front of a big aud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Making Choic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any of the situations might be examples of appreciation, smile and  say 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”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not, don’t say anything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ppreciation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aking Choic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ening to music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tching a movie over and over ag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tter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ling your classmates nam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Making Choic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any of the situations might be examples of wander, say “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and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not, don’t do anything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aking Choic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hen looking for her chick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butterfly stopping on each of the flow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boss who is rushing for a mee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kitten alone in the par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inging 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W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ds 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L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3657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First Day Jit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nd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xious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reci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58128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95280" y="3083040"/>
            <a:ext cx="205740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1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590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Assessment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4745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et’s think about them some mor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your response to each question in a complete senten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-383760"/>
            <a:ext cx="7327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re in a hurry to go somewhere, are you more likely to wander or be anxious? Expl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1498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-383760"/>
            <a:ext cx="7327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read books about owls and then see a video about them, would you appreciate them more or would you be anxious?  Expl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038480" y="4267080"/>
            <a:ext cx="17398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-383760"/>
            <a:ext cx="7327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re waiting to have your tooth pulled, would you be anxious or wander?  Expl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32446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try to use these words as we work and play toda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ng deer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and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far away from home to look for territory of their own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and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hen you walk around with no specific place to go.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person wanders in the afternoon at the park to relax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733920" y="4038480"/>
            <a:ext cx="1603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is the best place for you to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and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  In the classroom during instruction time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038480" y="3809880"/>
            <a:ext cx="2038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in your neighborhood with your dog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19520" y="3733920"/>
            <a:ext cx="306216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at’s right you would wander  your neighborhood with your dog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19520" y="3733920"/>
            <a:ext cx="306216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ander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ame some places where it is safe to wander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scuss them with your team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5:42:41Z</dcterms:created>
  <dc:creator>SMurray</dc:creator>
  <dc:description/>
  <dc:language>en-US</dc:language>
  <cp:lastModifiedBy>Lindsay.VanStaden</cp:lastModifiedBy>
  <dcterms:modified xsi:type="dcterms:W3CDTF">2008-06-18T18:42:18Z</dcterms:modified>
  <cp:revision>38</cp:revision>
  <dc:subject/>
  <dc:title>Bringing Words To Life</dc:title>
</cp:coreProperties>
</file>